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F51-5CAA-4A26-8975-5C100BD0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BE6-9179-4927-9728-F162492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6D6-DBEA-452F-B7D3-1C793750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31E-1AF3-4329-8753-BF0096DA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30B-3C2E-46EC-8428-2CEC04E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B55-06FD-45F6-A6E4-8B40E646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C90-4D8E-4683-B4EA-6D630C1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6AB-164E-48D4-9BB1-3823379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EF2-F5EB-4D5F-BF71-1E04F36E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3AE-EA87-4E52-A6A0-82D6C72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BE9-9B19-4C9D-BE4A-9468F5CE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EEA-AA45-4A7E-A818-4C9FAAD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5C0-0631-40E8-A870-C2EF362FA06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atr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Gillian Clar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fro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viron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sinf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f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e-to-face fight o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lating to surroundings, especially as they affect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eaned to destroy g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enly disobedient or ang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xymo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32000" y="1557360"/>
            <a:ext cx="54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the same vowel sounds in close proximity to one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ir mea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ison of two seemingly contradictor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4T09:47:23Z</dcterms:modified>
  <cp:revision>38</cp:revision>
  <dc:subject/>
  <dc:title>La Belle Dame Sans Merci</dc:title>
</cp:coreProperties>
</file>